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E15-5C72-4628-BA2E-F753799C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11F-EA71-4F75-ADF5-159D6D5D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3F2-7F81-4A7D-88D3-FB12F681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45C-F39D-4E66-BB11-D1BBA8F6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A19F-29FB-4AAF-ACA5-86722719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9F06-9100-4111-A238-92BD1C29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CA1B-769E-4DDD-81A8-3FB43D5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62D7-03CE-426C-B158-9BB8C6AA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0889-E80F-4340-88AA-7AED8C0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C2A3-9584-4FAC-BF5B-E9B73B3A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9EC9-A661-4F48-B711-DB594FD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286-0EA0-4C89-A370-11258428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0C3B-1BA9-4D90-B071-594BE73F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62A7-E502-413B-8CE2-5BC69D3C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202E-5654-4193-8B98-16ECE8D1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CDFA-F33B-412A-A12E-2B24FE0E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28D5-2087-40F6-B2E6-E1A89CE8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7EA-62B0-454D-971E-848A53E2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A32-59D9-4F15-BE1A-081DD75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1DC-4BE0-4342-8CA5-0357E45D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A1B-5A88-48BA-B680-AFB9A885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986-1926-4488-9167-FB7951F3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96A-5242-48F4-8DDB-DE22A01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BC1-A4DF-40DA-A5C4-25F9201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440-6594-4A17-9E7B-0DAB21785F84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BAAC-0F83-401B-BF7A-4108D6957C5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7734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LICZNIK I MIANOWNIK UŁAM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64000" y="513864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my ułamek      w postaci iloraz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11280" y="1628640"/>
          <a:ext cx="216072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628640"/>
                    <a:ext cx="21607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886280" y="1719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alowan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zęści, co zapisuj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597720" y="225900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211640" y="2798640"/>
            <a:ext cx="39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iętamy, że kreska ułamkowa zastępuje iloraz, zatem ułamek możemy zapisać ja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16640" y="3384720"/>
                <a:ext cx="73836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511280" y="998640"/>
            <a:ext cx="68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Figurę podzielono na 8 części. Ile części zamalow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132" descr=""/>
          <p:cNvPicPr/>
          <p:nvPr/>
        </p:nvPicPr>
        <p:blipFill>
          <a:blip r:embed="rId3"/>
          <a:stretch/>
        </p:blipFill>
        <p:spPr>
          <a:xfrm>
            <a:off x="1511280" y="4778280"/>
            <a:ext cx="3916440" cy="117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11280" y="401472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Kostkę czekolady podzielono pomiędzy trójkę dzieci. Każde dziecko otrzymało     czeko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767720" y="513864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616280" y="5859360"/>
                <a:ext cx="203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41640" y="585936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7360" y="585936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62720" y="4284720"/>
                <a:ext cx="2030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21640" y="5815080"/>
                <a:ext cx="809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131328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łamek jest inną formą zapisu ilorazu dwóch licz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006640" y="2573280"/>
                <a:ext cx="1695240" cy="29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67000" y="3068640"/>
            <a:ext cx="35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znik ułamka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zie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62360" y="3924360"/>
            <a:ext cx="46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eska ułamkowa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nak dziel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7720" y="473400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nownik ułamka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ziel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25:57Z</dcterms:modified>
  <cp:revision>39</cp:revision>
  <dc:subject/>
  <dc:title>Slajd 1</dc:title>
</cp:coreProperties>
</file>